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CE4-4A08-4238-8F51-32F79594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FCE-5120-44B7-BC75-C1789F7D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DBECD-B080-4FC7-9503-23C8024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AB4B-F8A2-468E-81B5-38D79296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62065-C29E-49CD-BE3F-D51ACD29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03332-3CCE-484F-84E4-DA3043D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15714-52B1-43F1-9438-389A7FC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3467E-B908-4621-BE56-FDAFDB1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5CF41-CD66-4E91-B938-669C3B3C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10446-17EF-4166-AAF6-D24D5E9C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F039F-E8AA-438B-BD28-10FDEE5E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EC43A-1A92-4440-A877-AF4C2835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6C9-20C8-40B4-BD54-095672D2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D7FF6-0FF3-49A2-986E-28DFDE07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5E89C-A0A1-482F-B93B-5853C557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92115-4237-4A58-ABAB-E2B9CE57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0F90-B960-4A38-8929-0403019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F1948-F18C-446A-A1C7-E9FBFF41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5B3FE-1962-4FED-993A-DE61395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3BF1-A958-43B1-8165-0D4066F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0AD7F-9C77-40FE-879D-82C68F0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D8CA3-7E8F-4AF6-AE97-A107989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5813-CEA0-46AA-B46A-AFD4C5A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309-367C-4B36-8800-1AEDC81B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E103-9263-4058-930E-78F7393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66530-893D-42A7-AEB4-B2724CF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AA021-1A19-4A69-9E9D-24A801F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5EF9-997E-485C-A697-A45D308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7B1A8-6187-497F-8D3C-5770532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A2E3-7770-4F6E-8B21-FCAF98E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9946-3F0A-4E98-94A2-76FBBE9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25EF8-C1CB-4713-98A3-D179C447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12900-B75A-4AD4-94D2-EA83E093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CD54-59C0-4667-AD4F-56D18454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837-516C-41CE-B52B-5F7DCE5D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04E8A-E8C4-4E47-B4E6-8B0CD15A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F210F-6B3F-4B6D-A0D5-D1DAA195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F7E48-F41F-4084-80E5-A9B54125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84D2D-2CAC-4CF8-BA52-293F97A4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8B12B-907E-4CF2-8ECD-BAFCE6E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4029-7160-4F24-9F9B-A30EF91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73419-D351-4B0C-8300-57E4D8E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BD7AA-60F9-4E0F-B757-EEA62F60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BF480-41BC-4AB7-B1D3-1BCB0CF8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2C1A3-A393-4002-9C9D-12C0618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502-135E-47B4-BEF8-77235D88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4D8B1-8171-4AE1-BFBE-B14B081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3F2FE-8300-4AE4-949B-C77E05B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D1EBC-2B2D-436E-A55B-200EA54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A1D28-AC46-412E-A577-353EEADF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90D66-A53B-4573-9090-8779880F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E61BF-5677-4B79-B2EC-D9E0E7D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F5FDF-B60A-4F23-86B9-079D82EB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0B07F-914A-4D11-A0D5-EE08DCB2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515BF-8572-42D6-84FB-6C61A03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BE10C-68ED-4B85-8D8F-703C75F6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7E9-1646-403B-91E9-D6A4E7F2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D4AB3-5B2C-4A89-84FB-38EF72D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2391B-7609-46A7-A43D-4DDE0A2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1A138-32FE-46AB-A217-D0A5227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BA3A0-DDFF-4AC1-86DD-F2C0888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F22A4-84C8-418C-A634-7924CD1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D2B99-AE39-41E5-A59A-17E95217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3EE41-A018-4CD5-8F88-377486E9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B43F1-D2EF-403C-8391-12DCA1BD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558DC-2C7D-49D6-93C1-BFBF6CAF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288F7-9B46-4B08-9AF0-626A18B1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1389-EBEA-4DA6-B173-79D6088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E7E01-D9BC-4D7B-8C66-41BC890D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49228-5E9A-480B-81DB-381970D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27857-4F4E-4DAB-BBAE-82582285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E18B5-6D35-48E2-9B76-99F685C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CD26D-9421-438F-B446-22BBD90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E941A-DE8F-4930-8E31-58FC571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CFDE9-55EB-4EC7-822E-109FB1AF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09AFE-59F6-4030-8D5B-38D6EC19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8AE4D-51C7-4B44-9158-C2AE26B1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E709F-6796-45E4-998F-5D2B50A2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1F18-35EB-442C-88B6-93F77ED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9DD2E-2DC3-4966-BFF7-E351A95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079B8-6A6F-4AB0-B343-5A14E99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30211-4EA6-41A6-AF45-F704C7B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60E7A-1D5E-449B-B82A-F2352173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0CB69-3234-4851-B9F1-6D0F238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67055-A231-4294-93FE-51C1E02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9D915-958E-4F99-9089-330E98C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32356-7F60-473B-A621-EBC6208D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AEEDC-CF4B-44AE-BE36-EBF201AC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05D19-D7C4-4079-8796-157EE318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E405-CF70-4089-9067-89440315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816B8-F352-4DE0-8F00-7EC9AF36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A5416-16B9-4356-A538-A96B0BEF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3A80D-4E34-4CE3-BE03-90F6A40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D8216-0FA5-428D-A36D-551AE27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370EE-A14E-4090-9E76-A607611D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0FC8A-1CE1-4762-BE83-C6C519C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DCE1D-35F8-4E96-8920-6B5F7D2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71A1C-7935-4D24-8C08-8618930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9E17C-7E21-464E-8375-F0DFC13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56EB7-3A43-4B64-954D-DBB3FC7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F6C-BF87-4A12-84AE-888291A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151A3-506D-4145-9C5E-FF4490A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91A6C-0884-46D5-A43F-165E7822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45A5F-67E0-4A87-B36B-C84E9C40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C0661-F5A9-412F-8FD3-FCE4BF9A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F14D1-99F7-49A9-982E-9F3D2B3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69E12-54EA-4859-B62B-60AA5AB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10A4E-C89B-4186-BBC2-4B99928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B909A-012C-4715-BF02-8387D2C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CA3DA-7F66-4231-9F15-5EFD9B2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28818-7E11-4372-927A-4B9E755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5CC-3C12-4289-B626-A1F43FE9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EE66-6AA9-465A-9878-BE78196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9C72A-B601-40E5-8C17-8F1822F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1289E-DC0F-4676-BCA9-79EE8D2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E4CE5-C0BE-4603-887D-4834517B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9A3BF-E448-446F-A84E-336EA3DE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7FE96-C0CD-4FD9-B6A8-6154AFA4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8B9A1-33C3-4AB5-95F0-24B54F3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6FC80-563A-465D-9502-C9DE1B86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06C2E-EEF6-4977-A04E-99F821E7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61E37-2DEF-4210-AEEB-C9880E7D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06F51-F836-4CC1-9BFF-D3074D7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194-FE2C-4018-B754-31587F3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33D44-AC17-47F1-ACE4-01C1ACA6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58801-25ED-4655-A0DC-18AF795B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303B3-3D02-426B-973D-4304C4C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450F5-D204-499B-803C-79D5EE8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4D9E4-E183-4536-82DF-6715BEE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4F012-906B-47B2-B7E5-912C9F00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7B69B-83A7-4B75-AD88-E1454CC7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F2220-887B-4102-BC18-8CA13A6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9E688-B327-48C5-A02A-F94BC5B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62F28-8A54-4A2C-B783-1CD630C1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AEF0-525F-4B19-9117-31D12014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BDCC0-7333-425E-8816-2A51F18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2C02D-F8B8-4EC0-8B12-1EF68425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2D837-243E-4B10-9A56-5EDFD9D1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FE5D2-F535-4D73-AA63-198DFA3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C0A65-43ED-44B3-B71A-992673A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F6463-3520-4064-81F9-9C028D28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75967-299C-4478-B580-94843F0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3999C-88CA-41BC-A043-72701969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9DE46-0076-413D-A646-3F2DD425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2EF65-9915-44D8-A997-D8B70882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6666-5918-4F4C-98A4-E6DC7918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E6CD1-3445-4701-B14F-88CF5FED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A80D6-882C-449D-AEEA-809EAF6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3397B-06D4-4E9C-9477-04084343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F2D10-23CB-4D06-9E38-D719CD4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E7C6A-E42A-4E88-98C7-1C97A809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92B97-233F-4E5E-AF2A-9C83906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5C3BC-803A-4D45-AC61-A2C7B25A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30FA8-8A9A-4E53-ADB5-891836B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D7935-8A47-4093-A162-14B3060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4DC410-9E50-49B3-8FC7-E9B47B29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9AC-B608-49FC-82DD-3EBD8B21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29251-880E-4E85-9024-E5CED4BF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9D692-7DBF-4736-B911-C334BC99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6D61A-F2C3-4E9B-AEDD-D1736E0F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22AE64-B165-46BC-9BC1-8CE3086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46940-F858-429D-AE25-4DBAA530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8893D-9DF8-4872-A84E-0DF245B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99DF0-1084-4D36-8A06-33A0BC4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82286-D1D4-4B37-AF6E-98C01D9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95F03-D2B0-4E00-9AB2-D7FB855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12745-A581-474F-8388-5562B2E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50D4-878D-4549-A852-455A2995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B22C52-2EA1-4A18-A005-D4C21BCA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EB75E-CFCF-40D6-A810-1E4FAF27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37969-02D6-47DF-91FE-BF6A6F57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B1EB-02A8-4E09-BAFE-D3272793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047F-95C7-4228-BD52-6A9F170F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A5E9-8EC3-468C-9229-BA90DA5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324C8-AE3B-4C37-9A8A-8DD7CA9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D80-D4D1-4508-BE5D-9E1A0E00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B4D1-90C6-4D06-9945-338142F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15AC-672F-43C1-A941-DA9857C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24CD-2363-464A-82BF-48AD617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3367-2D13-4925-B301-AEA0600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545F-BC32-4A4D-8F9F-9454743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A7A9-BAB1-43E3-8651-C66C73A3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8BAB-2193-4667-A91C-B7B5A10D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01A9-B6ED-4EE4-9B00-7B7108A7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ED93-3E2D-4EBA-B5A5-D0485846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7821-2050-4DDB-AAB4-282DEBE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18D-EEFD-4A66-BFFB-C10EDD6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0D7D-214B-45FD-B9EC-AC8B5BE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774E-64BE-43D2-82EE-E7F69144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3CE0-70F3-415F-8219-2C51661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B5A3-0117-4E03-8544-E35934AE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9F41-072F-4163-B8E3-FD553EC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5E04-5C9F-44F9-BB7B-6B8499F7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1EE3-AFF4-4A82-A7E4-8F57C6D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C830-C806-458E-B3C8-8BA58189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72E1-BB3A-400E-90F9-5EAD576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BD6B-BF74-4E90-A3A7-D7436A92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49C-DEAC-433D-884F-62A93742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25F3-EDAB-4B46-BF25-D809DE2F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E038-97AA-47D4-83F7-A3C93A5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799F-7B7F-4C93-A0FC-0C32E69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C936D-0FFC-43DD-B9CB-DF420CC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4159B-5626-4C88-8323-F1B4504F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BC67-0D5C-4E4B-99DA-C1B080A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D137E-2DA9-4CBA-BC8A-2868DB9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60B94-FBD7-4BE4-9244-030F40A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627A-F478-4BDD-B69B-89FD35D2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09BF-6DE0-4A5C-8A9D-47C4BDA4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73B-9331-4C34-BAE3-1FCD74C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807F-DAAC-432A-8CE2-BD1CB093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6773-429A-463F-9A38-9272E511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4DA48-2AD9-41A3-97ED-0FA1DFD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DEFF-4013-41B4-AC68-FB81C03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15C7-4F54-4F5C-9C8E-B8DB6B67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4E762-FDBC-45A3-BAC0-4A2FD628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E3B4-4F0D-467A-B8A4-377610C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19F5-9AFD-4F67-832B-8795E24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ED84-0677-4C3F-B5EA-FC9E1E07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6C25-3301-486C-88EC-EE3317AD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E52-02E1-4287-B804-52E8AE5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A303-D97C-42D7-89FE-8045D0B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0FDD9-656A-413C-A870-4B025BFE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2916-313D-4855-8CA7-74B86E61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C9300-FB39-4F37-A43C-77D0F0AC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C612-36AD-418E-9474-033480A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EA14-816E-4720-9323-6CF4A2A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11750-9F9D-4640-BD2B-56BA52D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7278-A57D-4683-B3E8-E758EF56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0663-F90E-4CBE-8E32-4460A25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CFD8-E06C-4614-B9B5-1D5530C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E96-C7FA-41EE-9CAC-B1E7CEB4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1F5C-31DD-4C89-B4FE-BCFB479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CADB-00E3-4CDE-A4B2-AEE8910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014D2-ABE0-4D0B-9706-2620F21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A9CE-1CFA-481E-815C-2F633D6D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DCC4-789F-40C2-AB23-58F41E3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1F45-58DA-4C00-A606-79AB4764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5361-F251-42CB-944F-E2911CED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5F4E-E1F1-4CED-90D5-D41411B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BD309-B14B-45A4-8CDD-DB2813C0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CD195-2F3D-4DF2-A519-28702A4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968-93FC-4856-80D4-7450E12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F0F1-4727-4EDE-942E-D9B620E1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6D9C-3893-47DF-B968-5761CBB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969B-42EB-4852-86D7-9127B89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08A3-9B1E-40CE-B25F-0C1A62D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5109F-3D50-4298-A670-6BF6DD9D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2023-A12A-46B2-8D80-0BC9759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F4CD-BF32-4015-A893-FDF84FEC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656E2-F1E2-44B6-80DC-A214259E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60CD-4049-4C14-98C9-5FC7C6E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E311D-474A-46AC-858E-D6A20C9D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28F-3DBA-48C6-89F9-07448B653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FC70-5EE2-4C85-AF43-0831D4A30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E87-1A3A-48B6-9985-C40ADC524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769A-863E-42C3-A97B-F54DE2CFB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D72-4B08-474A-AF8C-CA4CAD4FF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35B8-8AAA-4497-A340-11CD11DA5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C329-1A45-49CE-8859-2A5E33F02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B84-2920-4CC3-9AAA-94E4BE7A8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AD6-D842-4744-B678-471898FFE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F4F-D54A-4159-8260-37EB557FD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869-F812-4718-9885-A587A4F88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5930-F506-49D7-BDE6-C4DEABDA3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6E3A-CE53-42CF-B607-2872A1780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5091-FAFD-4319-B5F9-58AEDDBD6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647-DF2E-48CF-8BEF-8D8793275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F313-31CC-4C69-84CA-8AF68536A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3D8A-530D-41D8-9D56-85D5E9E5F9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491-3335-430C-83CF-C272FC3781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7FF-8E03-46F2-9C37-5D15FC5D6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DD5-93B2-4CCB-B3AB-C89E0B3BD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B13-A14D-4DCA-A044-AB01D7C93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8444-D2D4-4A77-B508-829B18D843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A05-1C20-42A7-B180-002405871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E502-522B-42EC-A80B-CE2E11A70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29B-C969-435B-B536-FA0EA43FE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0BEF-495E-4D77-A98D-F51F496D77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CE98-446D-4DF2-877B-850BCF0F4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843-2CC9-48BC-BDA0-C025AF7457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F438-A176-4B12-AB6E-3FEF5EA7D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31E-9632-494E-99E9-720FE48D4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B09-F962-4BFA-A5C2-6C961A1B34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CDDA-E185-4895-927B-8819F46CC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53D-1DC5-4581-B6DC-F91CBF360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5FE7-63AE-4F1C-9146-15B45D5F3B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A9B6-2E1C-4F13-8EC1-A2123CD2B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B56-F7B8-42ED-B32B-563FDD13A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95E-F031-4DA4-A4BF-2BA3EDB34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292-1500-41BF-9093-ADD18EFB11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927-9541-44AA-9A4D-C98FBE4E2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CB8F-A1CA-4973-AEAE-1F6394FFC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00320" y="1916280"/>
            <a:ext cx="6543360" cy="7617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795240" y="3048120"/>
            <a:ext cx="7553520" cy="7617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2795760" y="4199040"/>
            <a:ext cx="3552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347760" y="725400"/>
            <a:ext cx="8448480" cy="594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3865680" y="193032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672080" y="1703520"/>
            <a:ext cx="720720" cy="601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6877080" y="1743120"/>
            <a:ext cx="1079640" cy="601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794040" y="301140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4500720" y="2795760"/>
            <a:ext cx="1150920" cy="601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804000" y="2795760"/>
            <a:ext cx="1150920" cy="601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3492360" y="4465800"/>
            <a:ext cx="1150920" cy="601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6329520" y="5559480"/>
            <a:ext cx="7189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657360" y="1362240"/>
            <a:ext cx="7829280" cy="4133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865440" cy="601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865440" cy="601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427640" y="220500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789600" y="2205000"/>
            <a:ext cx="1008360" cy="601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3348000" y="3716280"/>
            <a:ext cx="1008000" cy="601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059280" y="4724280"/>
            <a:ext cx="10080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76801" descr=""/>
          <p:cNvPicPr/>
          <p:nvPr/>
        </p:nvPicPr>
        <p:blipFill>
          <a:blip r:embed="rId1"/>
          <a:stretch/>
        </p:blipFill>
        <p:spPr>
          <a:xfrm>
            <a:off x="1457280" y="795240"/>
            <a:ext cx="6229440" cy="5658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4572000" y="1703520"/>
            <a:ext cx="720720" cy="601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4356000" y="2608200"/>
            <a:ext cx="1152720" cy="601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1152360" cy="601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4284720" y="4221000"/>
            <a:ext cx="1152360" cy="60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4643280" y="5027760"/>
            <a:ext cx="1441440" cy="601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4645080" y="5877000"/>
            <a:ext cx="12952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914400" y="905040"/>
            <a:ext cx="7315200" cy="5047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050920" y="4408560"/>
            <a:ext cx="1225800" cy="601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050920" y="5200560"/>
            <a:ext cx="1225800" cy="601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6012000" y="4394160"/>
            <a:ext cx="1225440" cy="601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012000" y="5186520"/>
            <a:ext cx="12254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7352" descr=""/>
          <p:cNvPicPr/>
          <p:nvPr/>
        </p:nvPicPr>
        <p:blipFill>
          <a:blip r:embed="rId1"/>
          <a:stretch/>
        </p:blipFill>
        <p:spPr>
          <a:xfrm>
            <a:off x="409680" y="1457280"/>
            <a:ext cx="8324640" cy="3943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2340000" y="270504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6877080" y="269388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2513160" y="371628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659640" y="3701880"/>
            <a:ext cx="474480" cy="395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2239920" y="473076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934320" y="4724280"/>
            <a:ext cx="43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6324" descr=""/>
          <p:cNvPicPr/>
          <p:nvPr/>
        </p:nvPicPr>
        <p:blipFill>
          <a:blip r:embed="rId1"/>
          <a:stretch/>
        </p:blipFill>
        <p:spPr>
          <a:xfrm>
            <a:off x="766800" y="919080"/>
            <a:ext cx="7610400" cy="5019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443640" y="1398600"/>
            <a:ext cx="1152720" cy="601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796000" y="2982960"/>
            <a:ext cx="1152360" cy="601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867280" y="4710240"/>
            <a:ext cx="11527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5300" descr=""/>
          <p:cNvPicPr/>
          <p:nvPr/>
        </p:nvPicPr>
        <p:blipFill>
          <a:blip r:embed="rId1"/>
          <a:stretch/>
        </p:blipFill>
        <p:spPr>
          <a:xfrm>
            <a:off x="314280" y="685800"/>
            <a:ext cx="8515440" cy="5486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187280" y="3111480"/>
            <a:ext cx="7705800" cy="601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77058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4276" descr=""/>
          <p:cNvPicPr/>
          <p:nvPr/>
        </p:nvPicPr>
        <p:blipFill>
          <a:blip r:embed="rId1"/>
          <a:stretch/>
        </p:blipFill>
        <p:spPr>
          <a:xfrm>
            <a:off x="295200" y="727200"/>
            <a:ext cx="8553600" cy="608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7417080" cy="601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755640" y="5445000"/>
            <a:ext cx="7416720" cy="601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39640" y="6242040"/>
            <a:ext cx="74170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31:2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